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  <a:defRPr b="0" lang="es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A65C43F5-1F26-4C9F-80B8-0607061317DE}" type="datetime">
              <a:rPr b="0" lang="es-ES" sz="13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  <a:defRPr b="0" lang="es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221E5800-B14A-4732-9495-8E00E3F64197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fld id="{96F4CAFA-FE1A-464C-AABC-549F66B5358E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A5153-F034-442D-AFDB-BC7F1BF630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1080" y="380808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20F86-4D4E-4B09-BBB8-F152EF06BA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D54B1-1BF0-43DE-94E9-66D82E0CE3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592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112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108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592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112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5EF69-0FD7-4EA7-83D8-6EF9BF3942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1960" y="279360"/>
            <a:ext cx="786132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4D579-86C3-4E7B-ABA0-94373D364A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352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71080" y="380808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352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7592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112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7108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7592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112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0B752-3C31-42D8-ACE2-2AC8A2EB0C4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B12F7-AB8C-4496-B31C-A886D106B34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EF26F-33AE-4AE5-9A48-F45D7EC1F28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0E03A-EAA9-46BD-B9ED-F45CEC69489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77C57-3C99-48DE-8538-F6CC5821BF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9BAF0-1134-4500-9F5D-3242028DC40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51960" y="279360"/>
            <a:ext cx="786132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9D09D6-07EB-439B-9802-CE70897DA0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F8A55-BDC2-4425-B42E-1F1088D61D4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352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B5FC6-9114-43CE-A67C-5BF78163A09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D85E0-4D53-4559-BBA7-CC26AE80096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71080" y="380808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430AF-EFAA-4607-A866-6C85C85A360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352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89008-C6B1-4152-BE1F-270239CDFE2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7592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81120" y="138600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7108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7592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81120" y="3808080"/>
            <a:ext cx="276624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CDC6A-3B78-4F04-BF9D-DDC179E8A0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064B1-69A5-44A6-A272-1C75E60BC9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6EB9E-E4F4-4CCA-9ABF-0F10805D51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1960" y="279360"/>
            <a:ext cx="786132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C8C41-B77E-4F79-ABCA-84A5264330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769DE-A4AA-493E-9BC9-A18A8F2E33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0808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1C5CF-2ABB-4AC6-BF03-068374F5A8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108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386000"/>
            <a:ext cx="41925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1080" y="3808080"/>
            <a:ext cx="85914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B3C22-18AF-429D-ADA1-4E91DEF693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4680" y="6207120"/>
            <a:ext cx="2047680" cy="658800"/>
          </a:xfrm>
          <a:custGeom>
            <a:avLst/>
            <a:gdLst/>
            <a:ahLst/>
            <a:rect l="l" t="t" r="r" b="b"/>
            <a:pathLst>
              <a:path w="2045036" h="1824142">
                <a:moveTo>
                  <a:pt x="2382" y="1807368"/>
                </a:moveTo>
                <a:lnTo>
                  <a:pt x="0" y="0"/>
                </a:lnTo>
                <a:lnTo>
                  <a:pt x="1086491" y="2"/>
                </a:lnTo>
                <a:lnTo>
                  <a:pt x="2045036" y="1824142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4680" y="6207120"/>
            <a:ext cx="9145440" cy="65880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403018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SzPct val="15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955880" y="6362280"/>
            <a:ext cx="6286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PECS: Climate Predictions for Climate Services   CCCS Meeting 28 November 20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474400" y="6348960"/>
            <a:ext cx="35640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447F23-689E-4582-B900-35478AB7FF72}" type="slidenum"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1" descr="SPECS Logo Final Proposal_without text"/>
          <p:cNvPicPr/>
          <p:nvPr/>
        </p:nvPicPr>
        <p:blipFill>
          <a:blip r:embed="rId2"/>
          <a:stretch/>
        </p:blipFill>
        <p:spPr>
          <a:xfrm>
            <a:off x="58680" y="250920"/>
            <a:ext cx="1706760" cy="5572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4" descr="images"/>
          <p:cNvPicPr/>
          <p:nvPr/>
        </p:nvPicPr>
        <p:blipFill>
          <a:blip r:embed="rId3"/>
          <a:stretch/>
        </p:blipFill>
        <p:spPr>
          <a:xfrm>
            <a:off x="8211960" y="184320"/>
            <a:ext cx="906480" cy="61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6"/>
          <p:cNvSpPr/>
          <p:nvPr/>
        </p:nvSpPr>
        <p:spPr>
          <a:xfrm>
            <a:off x="0" y="2647800"/>
            <a:ext cx="357336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Forma libre 11"/>
          <p:cNvSpPr/>
          <p:nvPr/>
        </p:nvSpPr>
        <p:spPr>
          <a:xfrm>
            <a:off x="3008160" y="5952960"/>
            <a:ext cx="6039000" cy="808200"/>
          </a:xfrm>
          <a:custGeom>
            <a:avLst/>
            <a:gdLst/>
            <a:ahLst/>
            <a:rect l="l" t="t" r="r" b="b"/>
            <a:pathLst>
              <a:path w="5932705" h="613440">
                <a:moveTo>
                  <a:pt x="653873" y="613440"/>
                </a:moveTo>
                <a:lnTo>
                  <a:pt x="5932705" y="613440"/>
                </a:lnTo>
                <a:lnTo>
                  <a:pt x="5932705" y="0"/>
                </a:lnTo>
                <a:lnTo>
                  <a:pt x="0" y="0"/>
                </a:lnTo>
                <a:lnTo>
                  <a:pt x="653873" y="6134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7" name="Imagen 17" descr="IC3_Logo_Vector.png"/>
          <p:cNvPicPr/>
          <p:nvPr/>
        </p:nvPicPr>
        <p:blipFill>
          <a:blip r:embed="rId2"/>
          <a:stretch/>
        </p:blipFill>
        <p:spPr>
          <a:xfrm>
            <a:off x="7899480" y="5952960"/>
            <a:ext cx="1198440" cy="808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SzPct val="15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ight Triangle 16"/>
          <p:cNvSpPr/>
          <p:nvPr/>
        </p:nvSpPr>
        <p:spPr>
          <a:xfrm>
            <a:off x="0" y="2647800"/>
            <a:ext cx="357336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Right Triangle 17"/>
          <p:cNvSpPr/>
          <p:nvPr/>
        </p:nvSpPr>
        <p:spPr>
          <a:xfrm rot="5400000">
            <a:off x="434160" y="-434160"/>
            <a:ext cx="6858000" cy="772632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271080" y="1386000"/>
            <a:ext cx="85914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SzPct val="15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3"/>
          </p:nvPr>
        </p:nvSpPr>
        <p:spPr>
          <a:xfrm>
            <a:off x="3032280" y="6284520"/>
            <a:ext cx="520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434342"/>
                </a:solidFill>
                <a:latin typeface="Times New Roman"/>
              </a:rPr>
              <a:t>SPECS: Climate Predictions for Climate Services</a:t>
            </a:r>
            <a:r>
              <a:rPr b="0" lang="en-US" sz="1000" spc="-1" strike="noStrike">
                <a:solidFill>
                  <a:srgbClr val="434342"/>
                </a:solidFill>
                <a:latin typeface="Times New Roman"/>
              </a:rPr>
              <a:t>   CCCS Meeting 29 November 20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4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1BE6F9-1340-4D1A-9704-4504D706A300}" type="slidenum">
              <a:rPr b="0" lang="es-E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climate4impact.eu/" TargetMode="Externa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4572000" y="991080"/>
            <a:ext cx="4475160" cy="22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0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PEC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mate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rediction for Climate Servic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6" name="Picture 6" descr="SPECS Logo Final Proposal"/>
          <p:cNvPicPr/>
          <p:nvPr/>
        </p:nvPicPr>
        <p:blipFill>
          <a:blip r:embed="rId1"/>
          <a:stretch/>
        </p:blipFill>
        <p:spPr>
          <a:xfrm>
            <a:off x="3456000" y="5919840"/>
            <a:ext cx="1684440" cy="774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iCrea_Pantone verd rgb"/>
          <p:cNvPicPr/>
          <p:nvPr/>
        </p:nvPicPr>
        <p:blipFill>
          <a:blip r:embed="rId2"/>
          <a:srcRect l="12951" t="0" r="12951" b="40404"/>
          <a:stretch/>
        </p:blipFill>
        <p:spPr>
          <a:xfrm>
            <a:off x="6897600" y="6170760"/>
            <a:ext cx="1036800" cy="3204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2"/>
          <p:cNvSpPr/>
          <p:nvPr/>
        </p:nvSpPr>
        <p:spPr>
          <a:xfrm>
            <a:off x="2843280" y="4372920"/>
            <a:ext cx="626256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0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.J. Doblas-Reye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ICREA, IC3 and BSC-CNS, Barcelona, Spai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9" name="Picture 7" descr="logo_BSC2"/>
          <p:cNvPicPr/>
          <p:nvPr/>
        </p:nvPicPr>
        <p:blipFill>
          <a:blip r:embed="rId3"/>
          <a:srcRect l="0" t="0" r="23921" b="50080"/>
          <a:stretch/>
        </p:blipFill>
        <p:spPr>
          <a:xfrm>
            <a:off x="5900760" y="5969160"/>
            <a:ext cx="91764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5196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e-driven foreca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1"/>
          <p:cNvSpPr/>
          <p:nvPr/>
        </p:nvSpPr>
        <p:spPr>
          <a:xfrm>
            <a:off x="34920" y="898560"/>
            <a:ext cx="9053640" cy="13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iability diagrams of initialised MME for left) basin-wide ACE and centre) U.S. ACE and right) uninitalised MME U.S. ACE 1-5 year forecasts for anomalies above the mean over 1961-2009. Statistically significant values are in bold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-204120" y="5840280"/>
            <a:ext cx="2445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ron et al. (2015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10" name="1 Imagen" descr=""/>
          <p:cNvPicPr/>
          <p:nvPr/>
        </p:nvPicPr>
        <p:blipFill>
          <a:blip r:embed="rId1"/>
          <a:stretch/>
        </p:blipFill>
        <p:spPr>
          <a:xfrm>
            <a:off x="272880" y="3029040"/>
            <a:ext cx="5840640" cy="2498760"/>
          </a:xfrm>
          <a:prstGeom prst="rect">
            <a:avLst/>
          </a:prstGeom>
          <a:ln w="0">
            <a:noFill/>
          </a:ln>
        </p:spPr>
      </p:pic>
      <p:pic>
        <p:nvPicPr>
          <p:cNvPr id="211" name="5 Imagen" descr=""/>
          <p:cNvPicPr/>
          <p:nvPr/>
        </p:nvPicPr>
        <p:blipFill>
          <a:blip r:embed="rId2"/>
          <a:stretch/>
        </p:blipFill>
        <p:spPr>
          <a:xfrm>
            <a:off x="5973840" y="3097080"/>
            <a:ext cx="2927160" cy="246852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E95B60-8826-425F-B10A-908FA20004CC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9684D0-23A9-407E-A1F4-AAC271943D0C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3920" y="863640"/>
            <a:ext cx="9060120" cy="550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76200" indent="0"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entralised data repository at BADC with files using a convention building on both CMIP5 and CHFP and that is expected to become the basis for CMIP6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6200" indent="0"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published on the ESG after quality control reachable by other SPECS-related services (ECOMS UDG, Climate Explorer, etc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6200" indent="0"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sensitivity experiments and NMME data availab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ta disse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5" descr="33"/>
          <p:cNvPicPr/>
          <p:nvPr/>
        </p:nvPicPr>
        <p:blipFill>
          <a:blip r:embed="rId1"/>
          <a:srcRect l="11116" t="19143" r="11116" b="10939"/>
          <a:stretch/>
        </p:blipFill>
        <p:spPr>
          <a:xfrm>
            <a:off x="1046160" y="2881440"/>
            <a:ext cx="7050240" cy="3220920"/>
          </a:xfrm>
          <a:prstGeom prst="rect">
            <a:avLst/>
          </a:prstGeom>
          <a:ln w="0">
            <a:noFill/>
          </a:ln>
        </p:spPr>
      </p:pic>
      <p:sp>
        <p:nvSpPr>
          <p:cNvPr id="218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97CCF0-7324-4B4A-8A13-68A3FE0F7915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3920" y="863640"/>
            <a:ext cx="9060120" cy="550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76200" indent="0"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SPECS data are now visible from the Climate4impact portal </a:t>
            </a:r>
            <a:r>
              <a:rPr b="0" lang="en-US" sz="1800" spc="-1" strike="noStrike" u="sng">
                <a:solidFill>
                  <a:srgbClr val="5f5f5f"/>
                </a:solidFill>
                <a:uFillTx/>
                <a:latin typeface="Verdana"/>
                <a:hlinkClick r:id="rId1"/>
              </a:rPr>
              <a:t>http://climate4impact.eu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6200" indent="0"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ts of work still missing: e.g. use cases and processing demonstration video for climate predic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ownstream serv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1 Imagen" descr=""/>
          <p:cNvPicPr/>
          <p:nvPr/>
        </p:nvPicPr>
        <p:blipFill>
          <a:blip r:embed="rId2"/>
          <a:stretch/>
        </p:blipFill>
        <p:spPr>
          <a:xfrm>
            <a:off x="895320" y="2160720"/>
            <a:ext cx="7373880" cy="3990960"/>
          </a:xfrm>
          <a:prstGeom prst="rect">
            <a:avLst/>
          </a:prstGeom>
          <a:ln w="0">
            <a:noFill/>
          </a:ln>
        </p:spPr>
      </p:pic>
      <p:sp>
        <p:nvSpPr>
          <p:cNvPr id="223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46B599-D068-4068-AF51-4A8CA6CAD4A4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mmon tools for ver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5" descr="00"/>
          <p:cNvPicPr/>
          <p:nvPr/>
        </p:nvPicPr>
        <p:blipFill>
          <a:blip r:embed="rId1"/>
          <a:srcRect l="20920" t="22564" r="2324" b="2821"/>
          <a:stretch/>
        </p:blipFill>
        <p:spPr>
          <a:xfrm>
            <a:off x="1274760" y="831960"/>
            <a:ext cx="6541920" cy="5240160"/>
          </a:xfrm>
          <a:prstGeom prst="rect">
            <a:avLst/>
          </a:prstGeom>
          <a:ln w="0">
            <a:noFill/>
          </a:ln>
        </p:spPr>
      </p:pic>
      <p:sp>
        <p:nvSpPr>
          <p:cNvPr id="227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4A2B97-29E4-4623-81B1-D35770537B00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3920" y="863640"/>
            <a:ext cx="9060120" cy="550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series of fact sheets has been started (available from the SPECS web site). Common vocabulary with EUPORIAS, targeting a wide audience, mimicking some material already existing to explain what climate change i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act she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1 Imagen" descr=""/>
          <p:cNvPicPr/>
          <p:nvPr/>
        </p:nvPicPr>
        <p:blipFill>
          <a:blip r:embed="rId1"/>
          <a:stretch/>
        </p:blipFill>
        <p:spPr>
          <a:xfrm>
            <a:off x="1884240" y="1833480"/>
            <a:ext cx="5372280" cy="4324320"/>
          </a:xfrm>
          <a:prstGeom prst="rect">
            <a:avLst/>
          </a:prstGeom>
          <a:ln w="0">
            <a:noFill/>
          </a:ln>
        </p:spPr>
      </p:pic>
      <p:sp>
        <p:nvSpPr>
          <p:cNvPr id="232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CA28F1-525D-45A7-8850-6CFF95DF1D13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7360" y="20916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limate predi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0000" y="907920"/>
            <a:ext cx="8580240" cy="544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gression from initial-value problems with weather forecasting at one end and multi-decadal to century projections as a forced boundary condition problem at the other, with climate prediction (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sub-seasonal, seasonal and decada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 in the middle. Prediction involves initialization and systematic comparison with a 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simultaneou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refere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-211680" y="5840280"/>
            <a:ext cx="3720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apted from Meehl et al. (2009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22120" y="2889360"/>
            <a:ext cx="8686800" cy="2898720"/>
            <a:chOff x="222120" y="2889360"/>
            <a:chExt cx="8686800" cy="2898720"/>
          </a:xfrm>
        </p:grpSpPr>
        <p:sp>
          <p:nvSpPr>
            <p:cNvPr id="145" name="Rectangle 6"/>
            <p:cNvSpPr/>
            <p:nvPr/>
          </p:nvSpPr>
          <p:spPr>
            <a:xfrm>
              <a:off x="1526760" y="2935440"/>
              <a:ext cx="4635720" cy="2852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Rectangle 7"/>
            <p:cNvSpPr/>
            <p:nvPr/>
          </p:nvSpPr>
          <p:spPr>
            <a:xfrm>
              <a:off x="266400" y="4284720"/>
              <a:ext cx="8056440" cy="72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97b7e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Rectangle 8"/>
            <p:cNvSpPr/>
            <p:nvPr/>
          </p:nvSpPr>
          <p:spPr>
            <a:xfrm rot="10800000">
              <a:off x="1166400" y="5049360"/>
              <a:ext cx="7516800" cy="72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97b7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Line 9"/>
            <p:cNvSpPr/>
            <p:nvPr/>
          </p:nvSpPr>
          <p:spPr>
            <a:xfrm>
              <a:off x="266400" y="3970440"/>
              <a:ext cx="8507520" cy="44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Text Box 10"/>
            <p:cNvSpPr/>
            <p:nvPr/>
          </p:nvSpPr>
          <p:spPr>
            <a:xfrm>
              <a:off x="312480" y="4464000"/>
              <a:ext cx="252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Verdana"/>
                </a:rPr>
                <a:t>Initial-value driven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0" name="Text Box 11"/>
            <p:cNvSpPr/>
            <p:nvPr/>
          </p:nvSpPr>
          <p:spPr>
            <a:xfrm>
              <a:off x="5036760" y="5275440"/>
              <a:ext cx="35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Verdana"/>
                </a:rPr>
                <a:t>Boundary-condition driven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7650000" y="4059360"/>
              <a:ext cx="12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222120" y="3340080"/>
              <a:ext cx="1258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</a:rPr>
                <a:t>Weather forecasts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Text Box 14"/>
            <p:cNvSpPr/>
            <p:nvPr/>
          </p:nvSpPr>
          <p:spPr>
            <a:xfrm>
              <a:off x="1572840" y="2889360"/>
              <a:ext cx="2384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</a:rPr>
                <a:t>Subseasonal to seasonal forecasts (2 weeks-18 months)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Text Box 15"/>
            <p:cNvSpPr/>
            <p:nvPr/>
          </p:nvSpPr>
          <p:spPr>
            <a:xfrm>
              <a:off x="3958920" y="3114720"/>
              <a:ext cx="2249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</a:rPr>
                <a:t>Decadal forecasts (18 months-30 years)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Text Box 16"/>
            <p:cNvSpPr/>
            <p:nvPr/>
          </p:nvSpPr>
          <p:spPr>
            <a:xfrm>
              <a:off x="6252840" y="3384720"/>
              <a:ext cx="224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</a:rPr>
                <a:t>Climate-change projections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56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58680" y="914400"/>
            <a:ext cx="902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lobal mean near-surface air temperature over the ocean (one-year running mean applied) from CMIP5 hindcasts. Each system is shown with a different colour. NCEP and ERA40/Int used as reference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f96a1b"/>
                </a:solidFill>
                <a:latin typeface="Verdana"/>
              </a:rPr>
              <a:t>Examples of shock, drift and large systematic error can be found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8" name="Picture 5" descr="figure_AR5_11_5_final"/>
          <p:cNvPicPr/>
          <p:nvPr/>
        </p:nvPicPr>
        <p:blipFill>
          <a:blip r:embed="rId1"/>
          <a:srcRect l="0" t="3415" r="0" b="47820"/>
          <a:stretch/>
        </p:blipFill>
        <p:spPr>
          <a:xfrm>
            <a:off x="1933560" y="2279520"/>
            <a:ext cx="5264280" cy="3935520"/>
          </a:xfrm>
          <a:prstGeom prst="rect">
            <a:avLst/>
          </a:prstGeom>
          <a:ln w="0">
            <a:noFill/>
          </a:ln>
        </p:spPr>
      </p:pic>
      <p:sp>
        <p:nvSpPr>
          <p:cNvPr id="159" name="Title 2"/>
          <p:cNvSpPr/>
          <p:nvPr/>
        </p:nvSpPr>
        <p:spPr>
          <a:xfrm>
            <a:off x="65232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cadal forecast quality CMIP5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-232560" y="5880240"/>
            <a:ext cx="2794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PCC AR5 WGI (2013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cxnSp>
        <p:nvCxnSpPr>
          <p:cNvPr id="161" name="2 Conector recto de flecha"/>
          <p:cNvCxnSpPr/>
          <p:nvPr/>
        </p:nvCxnSpPr>
        <p:spPr>
          <a:xfrm>
            <a:off x="2646000" y="3131640"/>
            <a:ext cx="370440" cy="1080"/>
          </a:xfrm>
          <a:prstGeom prst="straightConnector1">
            <a:avLst/>
          </a:prstGeom>
          <a:ln w="38160">
            <a:solidFill>
              <a:srgbClr val="76787b"/>
            </a:solidFill>
            <a:miter/>
            <a:headEnd len="med" type="arrow" w="med"/>
            <a:tailEnd len="med" type="arrow" w="med"/>
          </a:ln>
        </p:spPr>
      </p:cxnSp>
      <p:sp>
        <p:nvSpPr>
          <p:cNvPr id="162" name="4 CuadroTexto"/>
          <p:cNvSpPr/>
          <p:nvPr/>
        </p:nvSpPr>
        <p:spPr>
          <a:xfrm>
            <a:off x="2492280" y="2795760"/>
            <a:ext cx="65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2-5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D2D666-F135-44F1-8A5B-A8A006E94F61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D0A7FF-5D39-4895-AA59-A26EFD38F3DF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3468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PECS moti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7080" y="863640"/>
            <a:ext cx="88488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Wha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to produce quasi-operational and actionable local climate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Why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need information with improved forecast quality, a focus on extreme climate events and enhanced communication and services for RCOFs, NHMSs and a wide range of public and private stakehold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How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with a new generation of reliable European climate forecast systems, including initialised ESMs, efficient regionalisation tools and combination methods, and an enhanced dissemination and communication protoc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Wher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over land, focus on Europe, Africa, South Amer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Whe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seasonal-to-decadal time scales over the longest possible observational peri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http://www.specs-fp7.e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73DB8D-ABD4-4518-B574-0B9804535CA3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34680" y="279360"/>
            <a:ext cx="78613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PECS: Overall strate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3" descr="1"/>
          <p:cNvPicPr/>
          <p:nvPr/>
        </p:nvPicPr>
        <p:blipFill>
          <a:blip r:embed="rId1"/>
          <a:srcRect l="8301" t="14173" r="9684" b="7349"/>
          <a:stretch/>
        </p:blipFill>
        <p:spPr>
          <a:xfrm>
            <a:off x="44280" y="1241280"/>
            <a:ext cx="9061560" cy="49514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131760" y="896760"/>
            <a:ext cx="887256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Links to EUPORIAS/NACLIM, but also IS-ENES2, PREFACE, EUCLEIA, CLIPC, …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Text Box 9"/>
          <p:cNvSpPr/>
          <p:nvPr/>
        </p:nvSpPr>
        <p:spPr>
          <a:xfrm rot="19714800">
            <a:off x="189720" y="2789640"/>
            <a:ext cx="8531280" cy="10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000" anchor="b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0000"/>
                </a:solidFill>
                <a:latin typeface="Century Gothic"/>
              </a:rPr>
              <a:t>Climate data is not climate information</a:t>
            </a: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917166-6246-47BD-AEC1-4F6748ABAB43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3920" y="863640"/>
            <a:ext cx="4178520" cy="550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pirical forecasts of one-month lead temperature (right panel) and precipitation using a wide range of observed predicto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eneralised empirical foreca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-264600" y="5880240"/>
            <a:ext cx="2367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den et al. (2015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80" name="Picture 1" descr=""/>
          <p:cNvPicPr/>
          <p:nvPr/>
        </p:nvPicPr>
        <p:blipFill>
          <a:blip r:embed="rId1"/>
          <a:stretch/>
        </p:blipFill>
        <p:spPr>
          <a:xfrm>
            <a:off x="17640" y="3890880"/>
            <a:ext cx="4294080" cy="1971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2"/>
          <a:stretch/>
        </p:blipFill>
        <p:spPr>
          <a:xfrm>
            <a:off x="4222800" y="1095480"/>
            <a:ext cx="4867200" cy="50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992221-91B8-4D91-9DD4-EC7F5CAF8243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3920" y="863640"/>
            <a:ext cx="9060120" cy="550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-year average SST over the North Atlantic (80ºW-10ºW,40ºN-60ºN) of (black) 20CR, (green) the assimilation simulation, (red) the 2-5 year MPI extended hindcasts and (blue) the uninitialzed run. The extended period improves the robustness of the resul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rting before 196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1 Imagen" descr=""/>
          <p:cNvPicPr/>
          <p:nvPr/>
        </p:nvPicPr>
        <p:blipFill>
          <a:blip r:embed="rId1"/>
          <a:stretch/>
        </p:blipFill>
        <p:spPr>
          <a:xfrm>
            <a:off x="871560" y="2214720"/>
            <a:ext cx="7400880" cy="38671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"/>
          <p:cNvSpPr/>
          <p:nvPr/>
        </p:nvSpPr>
        <p:spPr>
          <a:xfrm>
            <a:off x="-263880" y="5880240"/>
            <a:ext cx="2446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üller et al. (2014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3920" y="863640"/>
            <a:ext cx="9060120" cy="550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NRM-CM’s correlation for ensemble-mean predictions of DJF (one-month lead time) tropical precipitation, Northern Hemisphere Z500 and NAO as a function of the ensemble size. Red lines for 90% confidence interv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65040" y="253800"/>
            <a:ext cx="8375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 shortcuts: ensemble si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9" descr="annuel2014b-figa"/>
          <p:cNvPicPr/>
          <p:nvPr/>
        </p:nvPicPr>
        <p:blipFill>
          <a:blip r:embed="rId1"/>
          <a:stretch/>
        </p:blipFill>
        <p:spPr>
          <a:xfrm>
            <a:off x="384120" y="1714680"/>
            <a:ext cx="8345520" cy="427032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-289440" y="5894280"/>
            <a:ext cx="3087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. Déqué (Météo-France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692AF5-BA38-4A62-B641-BDBF0E60A5C7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365040" y="254160"/>
            <a:ext cx="8375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ruptions and prediction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44280" y="863640"/>
            <a:ext cx="9060120" cy="55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C-Earth2.3 simulations of volcanic aerosol impact for Pinatubo. Five-member ensembles initialised on the 1 November 1990.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No consistent treatment of volcanic aerosol and ozon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96" name="Image 3" descr="plot_ano_ta50_i03i_global_mean.png"/>
          <p:cNvPicPr/>
          <p:nvPr/>
        </p:nvPicPr>
        <p:blipFill>
          <a:blip r:embed="rId1"/>
          <a:stretch/>
        </p:blipFill>
        <p:spPr>
          <a:xfrm>
            <a:off x="2328840" y="1762200"/>
            <a:ext cx="3282840" cy="2278080"/>
          </a:xfrm>
          <a:prstGeom prst="rect">
            <a:avLst/>
          </a:prstGeom>
          <a:ln w="0">
            <a:noFill/>
          </a:ln>
        </p:spPr>
      </p:pic>
      <p:pic>
        <p:nvPicPr>
          <p:cNvPr id="197" name="Image 4" descr="plot_ano_ta50_i00k_global_mean.png"/>
          <p:cNvPicPr/>
          <p:nvPr/>
        </p:nvPicPr>
        <p:blipFill>
          <a:blip r:embed="rId2"/>
          <a:stretch/>
        </p:blipFill>
        <p:spPr>
          <a:xfrm>
            <a:off x="5735520" y="1733400"/>
            <a:ext cx="3286080" cy="2279880"/>
          </a:xfrm>
          <a:prstGeom prst="rect">
            <a:avLst/>
          </a:prstGeom>
          <a:ln w="0">
            <a:noFill/>
          </a:ln>
        </p:spPr>
      </p:pic>
      <p:pic>
        <p:nvPicPr>
          <p:cNvPr id="198" name="Image 16" descr="plot_ano_tas_i00k_global_mean.png"/>
          <p:cNvPicPr/>
          <p:nvPr/>
        </p:nvPicPr>
        <p:blipFill>
          <a:blip r:embed="rId3"/>
          <a:stretch/>
        </p:blipFill>
        <p:spPr>
          <a:xfrm>
            <a:off x="5746680" y="3889440"/>
            <a:ext cx="3286080" cy="2279520"/>
          </a:xfrm>
          <a:prstGeom prst="rect">
            <a:avLst/>
          </a:prstGeom>
          <a:ln w="0">
            <a:noFill/>
          </a:ln>
        </p:spPr>
      </p:pic>
      <p:pic>
        <p:nvPicPr>
          <p:cNvPr id="199" name="Image 17" descr="plot_ano_tas_i03i_global_mean.png"/>
          <p:cNvPicPr/>
          <p:nvPr/>
        </p:nvPicPr>
        <p:blipFill>
          <a:blip r:embed="rId4"/>
          <a:stretch/>
        </p:blipFill>
        <p:spPr>
          <a:xfrm>
            <a:off x="2309760" y="3900600"/>
            <a:ext cx="3286080" cy="22795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2"/>
          <p:cNvSpPr/>
          <p:nvPr/>
        </p:nvSpPr>
        <p:spPr>
          <a:xfrm>
            <a:off x="-9360" y="5872320"/>
            <a:ext cx="2379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. Ménégoz (IC3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463680" y="2617920"/>
            <a:ext cx="158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50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52560" y="4654440"/>
            <a:ext cx="244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Near-surface air temperatur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3375000" y="1889280"/>
            <a:ext cx="234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without volcanic aeroso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7273800" y="1876320"/>
            <a:ext cx="174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with volcanic aeroso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Slide Number Placeholder 5"/>
          <p:cNvSpPr/>
          <p:nvPr/>
        </p:nvSpPr>
        <p:spPr>
          <a:xfrm>
            <a:off x="8400960" y="6275520"/>
            <a:ext cx="50328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3110B1-1604-469D-9FC7-BBEA5A73C9DE}" type="slidenum">
              <a:rPr b="0" lang="es-E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1955880" y="6362640"/>
            <a:ext cx="62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entury Gothic"/>
              </a:rPr>
              <a:t>SPECS: Climate Predictions for Climate Services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, 14 September 2015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7T13:45:56Z</dcterms:created>
  <dc:creator>Franziska Ewald de Aceves</dc:creator>
  <dc:description/>
  <dc:language>en-US</dc:language>
  <cp:lastModifiedBy>bscuser</cp:lastModifiedBy>
  <dcterms:modified xsi:type="dcterms:W3CDTF">2015-09-20T14:15:21Z</dcterms:modified>
  <cp:revision>456</cp:revision>
  <dc:subject/>
  <dc:title>Presentación de PowerPoint</dc:title>
</cp:coreProperties>
</file>